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05B5-4402-4692-814A-693F9E2FE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AB67-7749-43D9-A2B5-70BEEC5B3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1E03-6539-48DF-A804-339DC455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79AC-7001-4CF0-8A85-3F61B092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72C-6D5C-4C30-9154-8F8BC97F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CCD-B96C-4489-846F-C2931B75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E6A-29C3-4835-BA0D-2DA09015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6155-CF61-4A7C-931F-27FBF3AA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0F86-0DAA-42E3-AE6C-1C11CD35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1DE-2A07-4BEF-A7EB-F9520BEB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0A13-A56A-4261-8885-0A091ADE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32D2-72DE-4160-9DA4-FB82EE0C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5A96-3C60-46DD-95D4-31DDCB53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D129-5296-43A8-82B8-4715C45B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9F87-8C2C-4DB3-98DC-EF0467132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hahmina Ham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hahmina Ham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hahmina Ha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hahmina Hami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hahmina Ha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447920" y="1752480"/>
            <a:ext cx="563868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Buenos días mis amigas.  Que haces¿ Donde estas¿  Como está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5720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27000" y="54100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767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429000"/>
            <a:ext cx="175248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Rhahmina. Vivo en NY. Yo tengo catorce años.  Yo soy simpática, bonita y divertida. Yo tengo tres  hermanos, son fastidiosos.  Tenemos dos pájaros inteligente. Adiós amigas!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60480" y="4876920"/>
            <a:ext cx="568080" cy="1085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743040" y="4876920"/>
            <a:ext cx="542880" cy="780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4100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7117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950000"/>
            <a:ext cx="439560" cy="633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257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Usted es simpática. Ustedes son mis amigas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0040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as, Rhahmina!  Te amo amigo.   Yo estoy en la ciuda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l tiene una fiesta mañana. ¿Tu quieres venir  a la fiesta? Nuestr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fiesta será divertida.  _x0016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, Rhahmina!  Espero el bus.  Estoy aburri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us fiestas son locas. ¿Tu vas?  Tu eres  linda!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stamos en Queens con nuestras amigas. Ellos están sorprendidos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7150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60958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7105680" y="4829040"/>
            <a:ext cx="1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4:59:44Z</dcterms:modified>
  <cp:revision>118</cp:revision>
  <dc:subject/>
  <dc:title>Profile</dc:title>
</cp:coreProperties>
</file>